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31E-FD17-466A-A4E0-FCD5F72A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0BF-CE67-4759-A6F1-E2DBB97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95A-BF4D-471E-9463-F0F574CB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AA2-DEE3-4D44-BB47-5C4BEFE2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BE47-3164-4155-811B-57472FEF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E1CA-460C-4573-8C1E-60EEFF58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A3C1-A7AE-4CB3-B506-53CDBA4E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CC87-9FD1-438F-85BE-8EEAFC80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959E-18CA-415F-AFEB-D54A560A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C387-0BF5-4B2E-A593-27E37F41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8AFB-C86C-4C64-A575-5947190A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EF8-2E86-41E4-814C-650CB27B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69E2-AEEF-48B6-A0BB-3B18B548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43B2-5B67-4893-A3B5-E4FD0C55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532E-F55F-4EF4-9B97-CDD2F861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C274-9CF1-48F7-AF46-B1BC1EF3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310F-E520-47F8-A302-97384739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32D-04B1-44B7-B605-0990ACF7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D17-35B9-4558-8CEE-92C25045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68C-7DA8-4986-9FBE-B835E0F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18B-796E-4B51-B157-0CD85BAE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DDB-6575-4601-9D4D-F5836E15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1F7-5323-4367-81E8-4413B9B4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61A-E3E7-4C48-BE47-3E7E3D19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01BE-96BD-4CD8-A548-E739E5A87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766-1A8C-474A-B343-D721DF60D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699160" cy="7597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ntertwining Literacy Into The Mathematical Rope of Education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m Sa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tober 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m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ing the math classroom by using literac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 math education was a rope, one would want the rope that is triple braided (math, reading, and writing) over the rope that is single braided (just math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(Shatzer, 2008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can create that visualization that the student needed in order to understand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ing books to be used as math enhanc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extension activities from books connecting literature to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(Rutherford-Becker, Vanderwood, 2009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lationship between literacy and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comprehension is highly correlated with math 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 tests measure both math skills and reading comprehension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(Verlaan, 2009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writing as a teaching strategy for m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reinforces rules and steps in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can also build one’s conf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Blank Graphic Organizer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: 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(from the notes and lectures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mework Problem: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(from the rules, from the not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(from the rules, from the not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(from the rules, from the not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Homework Exampl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: 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ubtracting numbers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mework Problem: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-(-5)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To subtract -5, add its opposite, + 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_4+ (+5)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Adding numbers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Rewrite/solve Problem:__4 +(+5) 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:____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to add numbers with same sig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       Rewrite/solve Problem:__|4|+|5|=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add their absolute valu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ule/Step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Use the sign of the numbers in answ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__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write/solve Problem: ____9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505320"/>
            <a:ext cx="83818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mportant Ideas Learned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and writing are both vital to one’s ability to understand and do m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riting in proofs, graphic organizers, and justifying one’s answers are good mnemonic devices, or ways of remembering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helps to reinforce the ideas and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I am a math teacher and love math, I have found out that reading is the most important subject ar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 is important in everyday life and is important to every subject or inte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reading, it would be very hard to learn in any sub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5:44:55Z</dcterms:created>
  <dc:creator> Angela Lauver</dc:creator>
  <dc:description/>
  <dc:language>en-US</dc:language>
  <cp:lastModifiedBy> Angela Lauver</cp:lastModifiedBy>
  <dcterms:modified xsi:type="dcterms:W3CDTF">2010-10-12T00:54:40Z</dcterms:modified>
  <cp:revision>3</cp:revision>
  <dc:subject/>
  <dc:title>Intertwining Literacy Into The Mathematical Rope of Education</dc:title>
</cp:coreProperties>
</file>